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D65C-BAC5-41AA-A172-760A7DFD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440" y="443556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5AFB-C6B4-4B54-A895-89D7D86A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5120" y="22860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43556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785120" y="443556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177E-6697-4C9E-838A-719EAA52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90840" y="228600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6240" y="228600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440" y="443556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90840" y="443556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96240" y="443556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1CB7-D2AA-4C44-B114-C9986413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4030-EF99-4D85-9FB2-E9EE15CE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85440" y="2286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FD45-1576-4EAF-972B-8E9B5BAD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1A41-E8F5-472E-BADD-E11085FE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85120" y="228600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7D6A-EDA4-4E4A-A2AE-6A2107DB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10DA-8EF5-417F-88A3-B3E73703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2AB5-71A2-4538-96DE-2078200A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85120" y="228600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440" y="443556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B982-9F70-4742-9DC1-986D3482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440" y="2286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C81C-E645-4655-82B0-79147158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85120" y="22860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85120" y="443556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E4BB-F1CD-4239-884E-C5D1D30F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85120" y="22860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440" y="443556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B46B-FC52-4A27-AC66-B22D2942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85440" y="443556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CB92-3DD7-42C1-8568-682025E0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5120" y="22860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440" y="443556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85120" y="443556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32F8-68CD-4D32-80C5-38CB7864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90840" y="228600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96240" y="228600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85440" y="443556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90840" y="443556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96240" y="443556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AB95-4C68-4E90-A5DB-57F30869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4ADC-5C12-4DFF-86CC-F569B7AD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5120" y="228600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D2DE-44DE-4699-8E30-BA42D0B4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394F-9D73-4B75-99AB-C11C9202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B302-D19E-4A46-903F-3E51CF9C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85120" y="228600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440" y="443556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153E-31CB-4839-A16F-37429F16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5120" y="22860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785120" y="443556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3DFF-5D9D-4FF2-BB09-A3EF5CA2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85120" y="22860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440" y="443556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5A3F-AF01-4274-BE62-A656C803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66680" y="1676520"/>
            <a:ext cx="7848720" cy="5181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440" y="2286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195120"/>
            <a:ext cx="838080" cy="6662880"/>
            <a:chOff x="0" y="195120"/>
            <a:chExt cx="838080" cy="6662880"/>
          </a:xfrm>
        </p:grpSpPr>
        <p:sp>
          <p:nvSpPr>
            <p:cNvPr id="5" name=""/>
            <p:cNvSpPr/>
            <p:nvPr/>
          </p:nvSpPr>
          <p:spPr>
            <a:xfrm>
              <a:off x="149400" y="423720"/>
              <a:ext cx="41904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49400" y="1947600"/>
              <a:ext cx="41904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9640" y="187164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99160" y="210024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9640" y="248112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280" y="179532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49400" y="202392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19520" y="453852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48920" y="24048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99160" y="270972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29040" y="30906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09160" y="30906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9640" y="278604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9520" y="362412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29040" y="362412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39400" y="35478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9640" y="42336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78800" y="347184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88800" y="42336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99160" y="461484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19040" y="370044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9640" y="40050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48920" y="293832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760" y="30906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59280" y="484344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19520" y="51480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9160" y="51480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9640" y="49194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48920" y="51480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19520" y="58338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49400" y="568152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040" y="53766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99160" y="575784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388800" y="568152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09160" y="621504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29040" y="614016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78800" y="636588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69280" y="636732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760" y="636732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99160" y="408132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9040" y="210024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520" y="248112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8680" y="44622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08680" y="26334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8680" y="499572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8680" y="58338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29160" y="196560"/>
              <a:ext cx="628200" cy="1598760"/>
              <a:chOff x="29160" y="196560"/>
              <a:chExt cx="628200" cy="1598760"/>
            </a:xfrm>
          </p:grpSpPr>
          <p:sp>
            <p:nvSpPr>
              <p:cNvPr id="52" name=""/>
              <p:cNvSpPr/>
              <p:nvPr/>
            </p:nvSpPr>
            <p:spPr>
              <a:xfrm>
                <a:off x="238680" y="425160"/>
                <a:ext cx="14940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98440" y="958680"/>
                <a:ext cx="14940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78080" y="1036440"/>
                <a:ext cx="14940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07960" y="428400"/>
                <a:ext cx="14940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80360" y="1261800"/>
                <a:ext cx="14976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50000" y="1414440"/>
                <a:ext cx="14976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8560" y="880920"/>
                <a:ext cx="14976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88440" y="1185840"/>
                <a:ext cx="14940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38680" y="1414440"/>
                <a:ext cx="14940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58200" y="501480"/>
                <a:ext cx="14976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18320" y="653760"/>
                <a:ext cx="14940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08800" y="730080"/>
                <a:ext cx="14940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920" y="1035000"/>
                <a:ext cx="14976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9040" y="577800"/>
                <a:ext cx="14940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9160" y="1263600"/>
                <a:ext cx="14940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18320" y="196560"/>
                <a:ext cx="14940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8800" y="272880"/>
                <a:ext cx="14940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89640" y="195120"/>
              <a:ext cx="5086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347400"/>
              <a:ext cx="14940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520" y="1261800"/>
              <a:ext cx="1195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9640" y="1643040"/>
              <a:ext cx="5086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8800" y="271440"/>
              <a:ext cx="14976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8800" y="1261800"/>
              <a:ext cx="26928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9160" y="248112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4D6D-7371-46B1-B511-C067C3A09A7F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6031080"/>
            <a:ext cx="222120" cy="82692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057400" y="1982880"/>
            <a:ext cx="685800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6320" y="228600"/>
            <a:ext cx="2057040" cy="6651720"/>
            <a:chOff x="76320" y="228600"/>
            <a:chExt cx="2057040" cy="6651720"/>
          </a:xfrm>
        </p:grpSpPr>
        <p:sp>
          <p:nvSpPr>
            <p:cNvPr id="119" name=""/>
            <p:cNvSpPr/>
            <p:nvPr/>
          </p:nvSpPr>
          <p:spPr>
            <a:xfrm>
              <a:off x="443520" y="457200"/>
              <a:ext cx="102852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3520" y="1981080"/>
              <a:ext cx="102852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6640" y="190512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10720" y="213372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6960" y="251460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57960" y="182880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3520" y="205740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9720" y="457200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78280" y="24382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0720" y="274320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84520" y="31240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0400" y="31240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6640" y="281952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9720" y="365760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84520" y="365760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3840" y="35812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6960" y="42670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51720" y="350532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31400" y="42670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10720" y="464832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04840" y="373392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640" y="40384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78280" y="297180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2840" y="31240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57960" y="487692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9720" y="51814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0400" y="51814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6960" y="49528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78280" y="51814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9720" y="58672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3520" y="571500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84520" y="54100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0720" y="579132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31400" y="571500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0400" y="624852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84520" y="617364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51720" y="639936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7640" y="640080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840" y="640080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0720" y="411480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04840" y="213372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9400" y="251460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25160" y="44956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25160" y="26668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25160" y="502920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25160" y="58672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47960" y="230040"/>
              <a:ext cx="1542600" cy="1598760"/>
              <a:chOff x="147960" y="230040"/>
              <a:chExt cx="1542600" cy="1598760"/>
            </a:xfrm>
          </p:grpSpPr>
          <p:sp>
            <p:nvSpPr>
              <p:cNvPr id="166" name=""/>
              <p:cNvSpPr/>
              <p:nvPr/>
            </p:nvSpPr>
            <p:spPr>
              <a:xfrm>
                <a:off x="662400" y="458640"/>
                <a:ext cx="36720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08920" y="992160"/>
                <a:ext cx="36720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249920" y="1069920"/>
                <a:ext cx="36720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323360" y="461880"/>
                <a:ext cx="36720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9480" y="1295280"/>
                <a:ext cx="36756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180800" y="1447920"/>
                <a:ext cx="36756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15160" y="914400"/>
                <a:ext cx="36756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029600" y="1219320"/>
                <a:ext cx="36720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62400" y="1447920"/>
                <a:ext cx="36720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55800" y="534960"/>
                <a:ext cx="36756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03040" y="687240"/>
                <a:ext cx="36720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88600" y="763560"/>
                <a:ext cx="36720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94480" y="1068480"/>
                <a:ext cx="36756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21400" y="611280"/>
                <a:ext cx="36720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7960" y="1297080"/>
                <a:ext cx="36720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03040" y="230040"/>
                <a:ext cx="36720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68280" y="306360"/>
                <a:ext cx="36720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296640" y="228600"/>
              <a:ext cx="124884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320" y="380880"/>
              <a:ext cx="36720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9400" y="1295280"/>
              <a:ext cx="29376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6640" y="1676520"/>
              <a:ext cx="124884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72040" y="304920"/>
              <a:ext cx="36756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72040" y="1295280"/>
              <a:ext cx="6613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0720" y="251460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2CAC-3FCB-4803-92C1-91B760E63E2E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ffcc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Sir, We Would See Jesus”</a:t>
            </a: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562120" y="2286000"/>
            <a:ext cx="58197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Quarter 10, Lesson 1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ohn 12:20-50; Matt. 21:19 – 22:22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rk 11:12 – 12:44; Luke 20:1-26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ages 133-139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F5FF-B48D-40CD-930E-267AB0D2CD46}" type="slidenum">
              <a:t>1</a:t>
            </a:fld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3055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The Parable of the Landowner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Mark 12:1-12; Matt. 21:33-44; Luke 20:9-18</a:t>
            </a:r>
            <a:endParaRPr b="0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e also asked them about the parable of the landowner who left his vineyard in the care of vine-dress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y answered correctly – punish th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landowner represents Go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vine-growers the Jews or their leade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servants were the prophe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son was Chris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8BA6-8927-4BF9-A660-C7D6F7D8AD12}" type="slidenum">
              <a:t>10</a:t>
            </a:fld>
          </a:p>
        </p:txBody>
      </p:sp>
    </p:spTree>
  </p:cSld>
  <p:transition spd="med">
    <p:zoom dir="in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3055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The Parable of the Marriage Feast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Matt. 22:1-14</a:t>
            </a:r>
            <a:endParaRPr b="0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e explained Psalm 118:22-23 to the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y understood that He was referring to th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rulers wanted to arrest Hi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king who prepared a marriage feast for his son and sent for the invited gues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invited guests represented the Jew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servants were the prophe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evil and the good on the highways - the worl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ne attendee insulted the host (God) and cast ou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A2CD-DBF4-4579-9876-071F1CF93BDF}" type="slidenum">
              <a:t>11</a:t>
            </a:fld>
          </a:p>
        </p:txBody>
      </p:sp>
    </p:spTree>
  </p:cSld>
  <p:transition spd="med">
    <p:zoom dir="in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3055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Some Try To Trap Jesus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Mark 12:13-17; Matt. 22:15-22; Luke 20:20-26</a:t>
            </a:r>
            <a:endParaRPr b="0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Pharisees and the Herodians tried to trap Him in His wo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s it lawful to pay taxes to Caesar, or not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y wanted a “yes” or “no” answ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e showed them an image of Caesar on a coi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e said, “Render to Caesar the things of Caesar’s, and to God the things that are God’s.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y marveled and kept quie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73D8-ECE2-454E-AE72-D247E10A79C5}" type="slidenum">
              <a:t>12</a:t>
            </a:fld>
          </a:p>
        </p:txBody>
      </p:sp>
    </p:spTree>
  </p:cSld>
  <p:transition spd="med">
    <p:zoom dir="in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The Life of Christ</a:t>
            </a: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epar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eginning Ministr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Galilean Ministr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tire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ose of Ministr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Last Wee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surrection and Exalt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6" name=""/>
          <p:cNvSpPr/>
          <p:nvPr/>
        </p:nvSpPr>
        <p:spPr>
          <a:xfrm>
            <a:off x="6400800" y="4876920"/>
            <a:ext cx="2362320" cy="520560"/>
          </a:xfrm>
          <a:prstGeom prst="rect">
            <a:avLst/>
          </a:prstGeom>
          <a:noFill/>
          <a:ln w="763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We are here!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657600" y="5181480"/>
            <a:ext cx="2666880" cy="0"/>
          </a:xfrm>
          <a:prstGeom prst="line">
            <a:avLst/>
          </a:prstGeom>
          <a:ln w="572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B16B-09CF-4CAF-A21C-D3504130456D}" type="slidenum">
              <a:t>2</a:t>
            </a:fld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3055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Certain Greeks Seek Jesus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John 12:20-22</a:t>
            </a:r>
            <a:endParaRPr b="0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se Greeks were either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oselytes” 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God-fearers”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y came to Jerusalem for the feas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y asked Philip,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Sir, we would like to see Jesus”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nd, they probably di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51E6-060B-416B-B1CF-77177152229F}" type="slidenum">
              <a:t>3</a:t>
            </a:fld>
          </a:p>
        </p:txBody>
      </p:sp>
    </p:spTree>
  </p:cSld>
  <p:transition spd="med">
    <p:zoom dir="in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3055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Jesus Foretells His Death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John 12:23-36</a:t>
            </a:r>
            <a:endParaRPr b="0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esus said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hour has com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 grain of wheat must die to bear much frui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e who hates his life...will keep it unto life eternal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f anyone serves me, he must follow m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ather, glorify Your nam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 voice spoke from heaven – “I will glorify it again”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prince of this world will be cast ou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f I be lifted up, I will draw all men (includes Gentiles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elieve in the Light so you may be children of Ligh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676F-F015-4A4B-AB3E-CD8AA06E218F}" type="slidenum">
              <a:t>4</a:t>
            </a:fld>
          </a:p>
        </p:txBody>
      </p:sp>
    </p:spTree>
  </p:cSld>
  <p:transition spd="med">
    <p:zoom dir="in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3055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They Could Not Believe”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John 12:37-41</a:t>
            </a:r>
            <a:endParaRPr b="0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esus left the crowd and hid Himself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saiah 53:1 fulfille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e has done many miracles, yet most of the people still did not believe on Hi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reasons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y hear, but understand no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y see, but perceive no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ir hearts are harden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244B-D585-41E2-8F82-75F9C1651BA0}" type="slidenum">
              <a:t>5</a:t>
            </a:fld>
          </a:p>
        </p:txBody>
      </p:sp>
    </p:spTree>
  </p:cSld>
  <p:transition spd="med">
    <p:zoom dir="in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3055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Some Did Believe On Him”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John 12:42-50</a:t>
            </a:r>
            <a:endParaRPr b="0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ome “rulers” believed on Him but would not confess Hi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eared the Pharise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id not want to be put out of the synagog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y loved the praise of men more than the praise of Go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esus said, “The word I have spoken, the same shall judge him in the last day.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8808-67BD-4709-9D9B-1C58D1E7E93E}" type="slidenum">
              <a:t>6</a:t>
            </a:fld>
          </a:p>
        </p:txBody>
      </p:sp>
    </p:spTree>
  </p:cSld>
  <p:transition spd="med">
    <p:zoom dir="in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3055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Barren Fig Tree Found Withered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Mark 11:19-25; Matt. 21:19-22; Luke 21:37-38</a:t>
            </a:r>
            <a:endParaRPr b="0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member the barren fig tree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s they passed it the next day (Tuesday), they noticed that it had withered from the roots u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is disciples were amaze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esus said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ave faith in Go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ith no doubt in the heart, it will be granted to hi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f you do not forgive, your sins will not be forgive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3469-254F-4738-921C-442CEEF4678D}" type="slidenum">
              <a:t>7</a:t>
            </a:fld>
          </a:p>
        </p:txBody>
      </p:sp>
    </p:spTree>
  </p:cSld>
  <p:transition spd="med">
    <p:zoom dir="in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8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8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1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7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3055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Jesus’ Authority Challenged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Mark 11:27-12:12; Matt. 21:23-22:14; Luke 20:1-19</a:t>
            </a:r>
            <a:endParaRPr b="0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n Tuesday, Jesus again taught in the temp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rulers asked Him, “By what authority are You doing these things, and who gave You this authority?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esus answered with a question, “Was the baptism of John from heaven, or from men?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rulers did not want to answ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esus then would not answer their ques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55C5-54C4-4A4F-8FAA-629DA4CAB7F0}" type="slidenum">
              <a:t>8</a:t>
            </a:fld>
          </a:p>
        </p:txBody>
      </p:sp>
    </p:spTree>
  </p:cSld>
  <p:transition spd="med">
    <p:zoom dir="in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3055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The Parable of the Two Sons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Matt. 21:28-32</a:t>
            </a:r>
            <a:endParaRPr b="0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esus asked them to answer the question about the two sons who were told to work in the vineyar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y answered correctly – the one who repent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first son represented the publicans and harlo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second son was the leadership of the Jew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leaders did not accept John’s teaching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F9E7-D576-429D-A2C0-9A28D29683D8}" type="slidenum">
              <a:t>9</a:t>
            </a:fld>
          </a:p>
        </p:txBody>
      </p:sp>
    </p:spTree>
  </p:cSld>
  <p:transition spd="med">
    <p:zoom dir="in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3T21:22:05Z</dcterms:created>
  <dc:creator>Frank D Vines</dc:creator>
  <dc:description/>
  <dc:language>en-US</dc:language>
  <cp:lastModifiedBy>Frank D Vines</cp:lastModifiedBy>
  <dcterms:modified xsi:type="dcterms:W3CDTF">2006-08-04T15:42:08Z</dcterms:modified>
  <cp:revision>14</cp:revision>
  <dc:subject/>
  <dc:title>Slide 1</dc:title>
</cp:coreProperties>
</file>